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3A435-F6C2-4AFB-84C4-827A77FE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1EF4D-00B8-40FB-AA30-9C4D1BEC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14D97-1615-4A9A-BF4A-47324096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07CE2-A2FA-4B2F-8023-F90E2847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CC05-7630-4503-8701-B3AC12EA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7BAC-9949-416A-AE5C-4B68C7B7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44A9-59A2-4154-8BB9-568DCDFB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5D3B-ED27-4CB7-8846-65A7A176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4C6D-AF70-456F-96E9-1D4BA792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B8A3-0783-4A3A-82B9-661D60AD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192F-4CD7-4836-9ED0-5476C58C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365A3-B397-49F2-9CAA-FD5259DF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91CC-87BF-4DC1-8BA0-73B6AA40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C918-4A8A-4E0C-950A-260E8A87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AD3F-ADB5-4B43-9D4F-1D7C3FFF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DEAE-61E8-4E10-B3C6-31C30293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12AC-61C6-4BEB-88F8-32ADEF4B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FED52-D7D3-4ACE-AE24-8CD7C728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5BD9C-6D7C-4B13-859A-FDBB39BF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5AA1A-8919-41DA-8BC3-8F611413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2567B-A394-49E7-823F-CD4F011E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0B831-F0E3-44DC-B214-4B78FE7A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72640-77EB-4ED3-AA4E-C2525DCA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BFE12-109F-4D9D-B791-0EACB2D9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2609-A04A-4954-88B9-F87A9F5537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30CD-6475-4D15-AC0A-990ECA2F6F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mutation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he plaintext up into groups of a fixed size,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permutation of the integers 1 to d called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each block, permute the letters according to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 is (d,f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let d = 5 and let f be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287720" y="4127400"/>
            <a:ext cx="1711800" cy="459720"/>
            <a:chOff x="1287720" y="4127400"/>
            <a:chExt cx="1711800" cy="459720"/>
          </a:xfrm>
        </p:grpSpPr>
        <p:sp>
          <p:nvSpPr>
            <p:cNvPr id="116" name=""/>
            <p:cNvSpPr/>
            <p:nvPr/>
          </p:nvSpPr>
          <p:spPr>
            <a:xfrm>
              <a:off x="1287720" y="4127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49600" y="4127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28640" y="4373640"/>
              <a:ext cx="89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287720" y="4660920"/>
            <a:ext cx="1711800" cy="459720"/>
            <a:chOff x="1287720" y="4660920"/>
            <a:chExt cx="1711800" cy="459720"/>
          </a:xfrm>
        </p:grpSpPr>
        <p:sp>
          <p:nvSpPr>
            <p:cNvPr id="120" name=""/>
            <p:cNvSpPr/>
            <p:nvPr/>
          </p:nvSpPr>
          <p:spPr>
            <a:xfrm>
              <a:off x="1287720" y="46609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49600" y="46609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18920" y="489744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297440" y="5194440"/>
            <a:ext cx="1702080" cy="459720"/>
            <a:chOff x="1297440" y="5194440"/>
            <a:chExt cx="1702080" cy="459720"/>
          </a:xfrm>
        </p:grpSpPr>
        <p:sp>
          <p:nvSpPr>
            <p:cNvPr id="124" name=""/>
            <p:cNvSpPr/>
            <p:nvPr/>
          </p:nvSpPr>
          <p:spPr>
            <a:xfrm>
              <a:off x="1297440" y="519444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49600" y="519444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18920" y="542124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287720" y="5727600"/>
            <a:ext cx="1693080" cy="459720"/>
            <a:chOff x="1287720" y="5727600"/>
            <a:chExt cx="1693080" cy="459720"/>
          </a:xfrm>
        </p:grpSpPr>
        <p:sp>
          <p:nvSpPr>
            <p:cNvPr id="128" name=""/>
            <p:cNvSpPr/>
            <p:nvPr/>
          </p:nvSpPr>
          <p:spPr>
            <a:xfrm>
              <a:off x="1287720" y="57276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30880" y="57276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19280" y="5945400"/>
              <a:ext cx="876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287720" y="6261120"/>
            <a:ext cx="1711800" cy="459720"/>
            <a:chOff x="1287720" y="6261120"/>
            <a:chExt cx="1711800" cy="459720"/>
          </a:xfrm>
        </p:grpSpPr>
        <p:sp>
          <p:nvSpPr>
            <p:cNvPr id="132" name=""/>
            <p:cNvSpPr/>
            <p:nvPr/>
          </p:nvSpPr>
          <p:spPr>
            <a:xfrm>
              <a:off x="1287720" y="62611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49600" y="62611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18920" y="646920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865320" y="4421160"/>
            <a:ext cx="42040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 e t t h    e b a l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095720" y="4811760"/>
            <a:ext cx="853920" cy="918360"/>
            <a:chOff x="4095720" y="4811760"/>
            <a:chExt cx="853920" cy="918360"/>
          </a:xfrm>
        </p:grpSpPr>
        <p:sp>
          <p:nvSpPr>
            <p:cNvPr id="137" name=""/>
            <p:cNvSpPr/>
            <p:nvPr/>
          </p:nvSpPr>
          <p:spPr>
            <a:xfrm>
              <a:off x="4095720" y="481176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83160" y="527040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429080" y="4773600"/>
            <a:ext cx="856440" cy="956520"/>
            <a:chOff x="4429080" y="4773600"/>
            <a:chExt cx="856440" cy="956520"/>
          </a:xfrm>
        </p:grpSpPr>
        <p:sp>
          <p:nvSpPr>
            <p:cNvPr id="140" name=""/>
            <p:cNvSpPr/>
            <p:nvPr/>
          </p:nvSpPr>
          <p:spPr>
            <a:xfrm>
              <a:off x="4429080" y="477360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35600" y="5270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935160" y="4773600"/>
            <a:ext cx="807840" cy="956520"/>
            <a:chOff x="3935160" y="4773600"/>
            <a:chExt cx="807840" cy="956520"/>
          </a:xfrm>
        </p:grpSpPr>
        <p:sp>
          <p:nvSpPr>
            <p:cNvPr id="143" name=""/>
            <p:cNvSpPr/>
            <p:nvPr/>
          </p:nvSpPr>
          <p:spPr>
            <a:xfrm>
              <a:off x="3935160" y="5270400"/>
              <a:ext cx="28296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162320" y="4773600"/>
              <a:ext cx="58068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172120" y="4782960"/>
            <a:ext cx="474480" cy="946800"/>
            <a:chOff x="5172120" y="4782960"/>
            <a:chExt cx="474480" cy="946800"/>
          </a:xfrm>
        </p:grpSpPr>
        <p:sp>
          <p:nvSpPr>
            <p:cNvPr id="146" name=""/>
            <p:cNvSpPr/>
            <p:nvPr/>
          </p:nvSpPr>
          <p:spPr>
            <a:xfrm>
              <a:off x="5363640" y="5270040"/>
              <a:ext cx="28296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72120" y="4782960"/>
              <a:ext cx="247320" cy="5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221000" y="4773600"/>
            <a:ext cx="1198440" cy="956520"/>
            <a:chOff x="4221000" y="4773600"/>
            <a:chExt cx="1198440" cy="956520"/>
          </a:xfrm>
        </p:grpSpPr>
        <p:sp>
          <p:nvSpPr>
            <p:cNvPr id="149" name=""/>
            <p:cNvSpPr/>
            <p:nvPr/>
          </p:nvSpPr>
          <p:spPr>
            <a:xfrm>
              <a:off x="4221000" y="527040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495680" y="4773600"/>
              <a:ext cx="92376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505560" y="4802040"/>
            <a:ext cx="837720" cy="918360"/>
            <a:chOff x="6505560" y="4802040"/>
            <a:chExt cx="837720" cy="918360"/>
          </a:xfrm>
        </p:grpSpPr>
        <p:sp>
          <p:nvSpPr>
            <p:cNvPr id="152" name=""/>
            <p:cNvSpPr/>
            <p:nvPr/>
          </p:nvSpPr>
          <p:spPr>
            <a:xfrm>
              <a:off x="6505560" y="480204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3360" y="526068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38920" y="4764240"/>
            <a:ext cx="872640" cy="956160"/>
            <a:chOff x="6838920" y="4764240"/>
            <a:chExt cx="872640" cy="956160"/>
          </a:xfrm>
        </p:grpSpPr>
        <p:sp>
          <p:nvSpPr>
            <p:cNvPr id="155" name=""/>
            <p:cNvSpPr/>
            <p:nvPr/>
          </p:nvSpPr>
          <p:spPr>
            <a:xfrm>
              <a:off x="6838920" y="4764240"/>
              <a:ext cx="57132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45080" y="526068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345720" y="4764240"/>
            <a:ext cx="807120" cy="956160"/>
            <a:chOff x="6345720" y="4764240"/>
            <a:chExt cx="807120" cy="956160"/>
          </a:xfrm>
        </p:grpSpPr>
        <p:sp>
          <p:nvSpPr>
            <p:cNvPr id="158" name=""/>
            <p:cNvSpPr/>
            <p:nvPr/>
          </p:nvSpPr>
          <p:spPr>
            <a:xfrm>
              <a:off x="6345720" y="526068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572160" y="4764240"/>
              <a:ext cx="580680" cy="58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7581960" y="4773600"/>
            <a:ext cx="457560" cy="946800"/>
            <a:chOff x="7581960" y="4773600"/>
            <a:chExt cx="457560" cy="946800"/>
          </a:xfrm>
        </p:grpSpPr>
        <p:sp>
          <p:nvSpPr>
            <p:cNvPr id="161" name=""/>
            <p:cNvSpPr/>
            <p:nvPr/>
          </p:nvSpPr>
          <p:spPr>
            <a:xfrm>
              <a:off x="7773480" y="5260680"/>
              <a:ext cx="266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81960" y="4773600"/>
              <a:ext cx="247680" cy="5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630120" y="4764240"/>
            <a:ext cx="1199160" cy="956160"/>
            <a:chOff x="6630120" y="4764240"/>
            <a:chExt cx="1199160" cy="956160"/>
          </a:xfrm>
        </p:grpSpPr>
        <p:sp>
          <p:nvSpPr>
            <p:cNvPr id="164" name=""/>
            <p:cNvSpPr/>
            <p:nvPr/>
          </p:nvSpPr>
          <p:spPr>
            <a:xfrm>
              <a:off x="6630120" y="5260680"/>
              <a:ext cx="266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05520" y="4764240"/>
              <a:ext cx="92376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CDF99-C134-446D-A3F6-51E549D882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Permutation under the cipher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468520" y="3651120"/>
            <a:ext cx="500544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369B2-F433-4C3C-BABE-A933026A5B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3T01:56:35Z</dcterms:modified>
  <cp:revision>69</cp:revision>
  <dc:subject/>
  <dc:title>CAP Cryptographic Analysis Program</dc:title>
</cp:coreProperties>
</file>